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24C-76DB-42D2-8942-6B433E5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136-CB0D-43C7-85A2-C0F9F49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C32-14DD-4FBA-A596-A1C1729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20D-905F-48DF-9120-F11B9A7B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FD6-489D-4766-948C-87DEC153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3D9-83E5-42A8-8353-0BFD5A83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1BD-36E7-4A72-914F-323C338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4F0-8F9E-4CB8-8A06-7D140CC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1328-C101-40EF-9558-3E406DB1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F91D-2684-4F09-9387-92AC45D0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E6A-D16E-4862-9794-2A14057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545-8BD8-4F8A-83E7-B11450A9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CAD-2ECA-40F7-B755-FE84E44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6D3-2FC7-4D8E-90F2-5C7D385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19B3-628B-4C1E-8000-56321B65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8B64-3774-401A-B109-8330FE73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BFE9-E3BF-43B3-BA8B-F08E8BDD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E92-45B3-449D-A34F-D8287B24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6C0-7089-41DB-A720-C9F9B9A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5DD-53EB-4DA2-ADF8-1FC5991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CFE-69FD-493A-B898-8AE9CD6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96F-CDFB-4414-817D-4332A10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807-BE03-423C-8F3E-16455A5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5EE-4F77-4311-A5AC-248310C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A46-1D50-4890-BC03-BA6225602A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D0F-45B2-4CE0-A50F-2F5413A2EB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George Washington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Bloedorn’s First Grade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br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fought against Eng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our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did not want to become the “King” of the United States because he did not want to be like the king of Eng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false tee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5909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orge was the 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sident.  George had to wear false teeth.  George wore a wig.  George fought against Englan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76800" y="1828800"/>
            <a:ext cx="30178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8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0574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a lawy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the 1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id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kill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did many job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ore a tall black hat where he kept important pap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born in Kentucky in a one room house with a dirt flo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kind and hon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very t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helped to free the sla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helped to join the north and the s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09800" y="1828800"/>
            <a:ext cx="3047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was born in Kentucky.  He fought for no slaves.  He was a lawyer before he was the 1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sident.  He wore a tall black hat.  He got killed by a movie star.  He was hone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23840" y="1828800"/>
            <a:ext cx="301788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01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28:25Z</dcterms:created>
  <dc:creator>cbloedorn</dc:creator>
  <dc:description/>
  <dc:language>en-US</dc:language>
  <cp:lastModifiedBy>cbloedorn</cp:lastModifiedBy>
  <dcterms:modified xsi:type="dcterms:W3CDTF">2008-02-21T14:52:34Z</dcterms:modified>
  <cp:revision>2</cp:revision>
  <dc:subject/>
  <dc:title>George Washington  &amp; Abraham Lincoln</dc:title>
</cp:coreProperties>
</file>